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7CFB-0A1E-4C9D-B87B-33899760E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0B2E-62FF-4F5B-8F8F-E73F83AFB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2D42-0EE2-40E7-8C9C-D85300D8A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2628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9060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36232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52628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9060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49EE-2C41-40D3-B9F4-F9934DE81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1743A-C2FC-45CF-B396-1855B621D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776CC-F020-4FD6-9812-31A6833EB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2497A-2FBD-4DA5-8CE7-5900195B0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291CA-4DE5-48A1-8293-4B75B9BD4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6AB97-8837-462B-8438-4B2BD2644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620120" cy="95382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B3AB1-AC3D-42BD-ACF3-918066554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DC07C-DC59-4546-BC4D-40C3FE9A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4377-15E9-4FFD-A2B7-369B31D5A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76FBA-23DB-40A4-A378-BB7D472F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A3093-7706-4052-9FA9-EED710B3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5E8CE-CC07-4F06-9B6C-01C21AAE9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D10F7-7705-4AA7-9EFC-77587A7A3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2628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9060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36232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52628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9060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AA924-EC36-4AAB-9F94-AEDBDFA38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DF03-2345-4267-A4FC-E2B82BF11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E418-17A8-4519-99BC-EEBE82971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4ADA-B76F-45B4-B13B-787683DAD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620120" cy="95382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FC45-481E-4E6A-8D57-0F6119892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31CD-1F98-4AD2-8D80-5D29C9A6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E2CE-802B-4B7E-8039-55C53B67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9979-80EA-4442-8089-1A281E6F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DAFFC-0FBF-46DA-94DA-22DC1723DD5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DFE82-39AA-41E4-BCC4-9EE813B99C8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ea Level Forecast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05120" y="358128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rning signs are already appearing, including higher tides and coastal flooring's, less rainfall and diminishing freshwater supplies, as well as bleaching of some coral reefs that cradle Kiribati's isl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6T16:34:02Z</dcterms:created>
  <dc:creator>PA Department of Education</dc:creator>
  <dc:description/>
  <dc:language>en-US</dc:language>
  <cp:lastModifiedBy>PA Department of Education</cp:lastModifiedBy>
  <dcterms:modified xsi:type="dcterms:W3CDTF">2009-05-27T16:37:30Z</dcterms:modified>
  <cp:revision>4</cp:revision>
  <dc:subject/>
  <dc:title>Sea Level Forecasting</dc:title>
</cp:coreProperties>
</file>